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ct" ContentType="image/x-pict"/>
  <Override PartName="/ppt/media/image4.png" ContentType="image/png"/>
  <Override PartName="/ppt/media/image5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5573A2F-6168-42D5-A169-411B28764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3E0874C-4C69-4120-BB0A-9D72124AB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B745E-EAFC-4E94-93FD-77B801317A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8960" y="131400"/>
            <a:ext cx="685152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4E33D-E1BD-4BFA-A1F4-2CA51DF85C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8960" y="131400"/>
            <a:ext cx="685152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21EC7-BFD5-4171-AD0E-BECF633303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8960" y="131400"/>
            <a:ext cx="685152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1620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69040" y="129060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6336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1620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69040" y="3974040"/>
            <a:ext cx="252612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9CE00-9E22-49FD-98B8-7112DF29CE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8960" y="131400"/>
            <a:ext cx="685152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AE63D-B338-412A-A3E8-C7388496DA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8960" y="131400"/>
            <a:ext cx="685152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571F4-182C-48DF-8AE5-B6EE3F1822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8960" y="131400"/>
            <a:ext cx="685152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7A209-E2EE-48B7-BEBC-BE55FC1745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8960" y="131400"/>
            <a:ext cx="685152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CB397-2128-44C3-A5DA-7C8961B71C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58960" y="131400"/>
            <a:ext cx="6851520" cy="24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4F7F4-050D-43F9-BB51-8E2E47CB93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8960" y="131400"/>
            <a:ext cx="685152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9058A-30AE-4F42-835E-BEBDA53320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8960" y="131400"/>
            <a:ext cx="685152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83480" y="397404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CDE01-F82F-4703-A788-47C7EC130B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8960" y="131400"/>
            <a:ext cx="685152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63360" y="3974040"/>
            <a:ext cx="784548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83084-06F2-42B9-88A1-E5E6A82552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rcRect l="0" t="0" r="0" b="11643"/>
          <a:stretch/>
        </p:blipFill>
        <p:spPr>
          <a:xfrm>
            <a:off x="0" y="0"/>
            <a:ext cx="9144000" cy="60595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963360" y="1290600"/>
            <a:ext cx="7845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9760">
              <a:spcBef>
                <a:spcPts val="7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7640" indent="-166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2239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93720" indent="-2235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593720" indent="-2235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593720" indent="-2235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758960" y="131400"/>
            <a:ext cx="685152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Oval 10"/>
          <p:cNvSpPr/>
          <p:nvPr/>
        </p:nvSpPr>
        <p:spPr>
          <a:xfrm>
            <a:off x="6480" y="0"/>
            <a:ext cx="1419120" cy="1254240"/>
          </a:xfrm>
          <a:prstGeom prst="ellipse">
            <a:avLst/>
          </a:prstGeom>
          <a:gradFill rotWithShape="0">
            <a:gsLst>
              <a:gs pos="0">
                <a:srgbClr val="b6cee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00" descr=""/>
          <p:cNvPicPr/>
          <p:nvPr/>
        </p:nvPicPr>
        <p:blipFill>
          <a:blip r:embed="rId3"/>
          <a:stretch/>
        </p:blipFill>
        <p:spPr>
          <a:xfrm>
            <a:off x="38160" y="282600"/>
            <a:ext cx="1380960" cy="70308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6759720" y="61495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745A-757C-4BA8-B488-F5F501CED08D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6759720" y="61498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B0E2D-A8EC-4045-BD84-B5E96B1DF7CE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60320" y="169560"/>
            <a:ext cx="6924600" cy="83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GEO Task US-09-01a</a:t>
            </a:r>
            <a:br>
              <a:rPr sz="32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Health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SBA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401760" y="1463760"/>
            <a:ext cx="8370720" cy="54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BA:  Health – Air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t:  Rudolf Husar, Washington University/Lan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-Analyst: Stefan Falke, Wash. U./Northrop Grumm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 Status of Repor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waiting feedback from Task Lead &amp; some AQ memb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e Final Report will be completed (if not already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/May 2010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8960" y="131400"/>
            <a:ext cx="6851520" cy="5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ub-Areas Analyzed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49200" y="939600"/>
            <a:ext cx="8462880" cy="47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ope Focus: Air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759720" y="61498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FB97E-A45D-4669-B62A-6E1772CC82C2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76200" y="3787920"/>
            <a:ext cx="4417920" cy="2476440"/>
          </a:xfrm>
          <a:prstGeom prst="rect">
            <a:avLst/>
          </a:prstGeom>
          <a:ln w="0">
            <a:noFill/>
          </a:ln>
        </p:spPr>
      </p:pic>
      <p:sp>
        <p:nvSpPr>
          <p:cNvPr id="57" name="Content Placeholder 2"/>
          <p:cNvSpPr/>
          <p:nvPr/>
        </p:nvSpPr>
        <p:spPr>
          <a:xfrm>
            <a:off x="5378400" y="3900600"/>
            <a:ext cx="357192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2600" indent="-2826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Q Observation  Sub-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llutant Paramet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servation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servation Strategy/Ut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ontent Placeholder 2"/>
          <p:cNvSpPr/>
          <p:nvPr/>
        </p:nvSpPr>
        <p:spPr>
          <a:xfrm>
            <a:off x="398520" y="1689120"/>
            <a:ext cx="482436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2600" indent="-282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ience-based AQ System Sub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missions, Primary/Second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mbient Concent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8960" y="131400"/>
            <a:ext cx="6851520" cy="5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rioritization Methodology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01400" y="1147680"/>
            <a:ext cx="838188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itization uses three independent (orthogonal) measures of EO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lutant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at is th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ealth effect potency of the pollutan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verag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patial-temporal cover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EO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tility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pplicability of the EO for multiple aspects of AQ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Os are ranked by each measure individually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he overall priority i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ubjectively weighed sum of the 3-dimensional rankin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6759720" y="61498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6F47B-E756-493A-8E19-BE5ACFBC6EAA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784760" y="1179360"/>
            <a:ext cx="4078080" cy="20862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2"/>
          <p:cNvSpPr/>
          <p:nvPr/>
        </p:nvSpPr>
        <p:spPr>
          <a:xfrm>
            <a:off x="246240" y="1089000"/>
            <a:ext cx="8721720" cy="2214720"/>
          </a:xfrm>
          <a:prstGeom prst="rect">
            <a:avLst/>
          </a:prstGeom>
          <a:solidFill>
            <a:srgbClr val="ffff00">
              <a:alpha val="11000"/>
            </a:srgbClr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58960" y="131400"/>
            <a:ext cx="6851520" cy="5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rioritization Methodology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58840" y="1601640"/>
            <a:ext cx="4394160" cy="16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lutant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O Guidelines Identifies pollutants and their max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asu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Gap between health needs and obs. frequ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6759720" y="61498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9E159-A3BD-407E-9667-DCB481BB8801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Content Placeholder 2"/>
          <p:cNvSpPr/>
          <p:nvPr/>
        </p:nvSpPr>
        <p:spPr>
          <a:xfrm>
            <a:off x="298440" y="5619600"/>
            <a:ext cx="848844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2600" indent="-2826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tility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EO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application in multiple segments of the AQ sy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s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Number of applications to AQ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ontent Placeholder 2"/>
          <p:cNvSpPr/>
          <p:nvPr/>
        </p:nvSpPr>
        <p:spPr>
          <a:xfrm>
            <a:off x="349200" y="6469200"/>
            <a:ext cx="8151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260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Note:</a:t>
            </a:r>
            <a:r>
              <a:rPr b="0" lang="en-US" sz="16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 Bibliometric data used only as a backup/consistency check in the priorit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9"/>
          <p:cNvSpPr/>
          <p:nvPr/>
        </p:nvSpPr>
        <p:spPr>
          <a:xfrm>
            <a:off x="258840" y="3705120"/>
            <a:ext cx="461304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verag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Q monitoring by country/conti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asu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Gap in monitoring/pers. between developed and developing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0"/>
          <p:cNvSpPr/>
          <p:nvPr/>
        </p:nvSpPr>
        <p:spPr>
          <a:xfrm>
            <a:off x="1658880" y="738360"/>
            <a:ext cx="66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l Approach: Gap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898880" y="3502080"/>
            <a:ext cx="4024440" cy="19018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3"/>
          <p:cNvSpPr/>
          <p:nvPr/>
        </p:nvSpPr>
        <p:spPr>
          <a:xfrm>
            <a:off x="271440" y="3533760"/>
            <a:ext cx="8709120" cy="1908360"/>
          </a:xfrm>
          <a:prstGeom prst="rect">
            <a:avLst/>
          </a:prstGeom>
          <a:solidFill>
            <a:srgbClr val="ccffcc">
              <a:alpha val="11000"/>
            </a:srgbClr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4"/>
          <p:cNvSpPr/>
          <p:nvPr/>
        </p:nvSpPr>
        <p:spPr>
          <a:xfrm>
            <a:off x="255600" y="5662440"/>
            <a:ext cx="8709120" cy="765360"/>
          </a:xfrm>
          <a:prstGeom prst="rect">
            <a:avLst/>
          </a:prstGeom>
          <a:solidFill>
            <a:srgbClr val="008000">
              <a:alpha val="11000"/>
            </a:srgbClr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58960" y="131400"/>
            <a:ext cx="7182000" cy="5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riority Observations for AQ-Health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66560" y="1152360"/>
          <a:ext cx="8267760" cy="5131080"/>
        </p:xfrm>
        <a:graphic>
          <a:graphicData uri="http://schemas.openxmlformats.org/drawingml/2006/table">
            <a:tbl>
              <a:tblPr/>
              <a:tblGrid>
                <a:gridCol w="1982880"/>
                <a:gridCol w="1071720"/>
                <a:gridCol w="1392120"/>
                <a:gridCol w="857160"/>
                <a:gridCol w="963720"/>
                <a:gridCol w="865080"/>
                <a:gridCol w="1135080"/>
              </a:tblGrid>
              <a:tr h="185760">
                <a:tc rowSpan="2"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. Categor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et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tial Prior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ggregated Observation Characteristic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3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tial Resolu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oral Resolu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urac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enc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57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er 1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204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bient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rica, As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km city   10km ru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h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2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3 hou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9240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bient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rica, As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km city   10km ru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h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2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3 hou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6504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bient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rica, As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km city   10km ru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h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2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3 hou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6504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bient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rica, As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km city   10km ru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h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2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3 hou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6360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bient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rica, As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km city   10km ru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h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2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3 hou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1857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57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er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980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bient, Emissions, SR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umn PM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10 k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h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3 hou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001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bient, Emissions, SR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umn SO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10 k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h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3 hou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001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bient, Emissions, SR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umn NO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10 k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h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3 hou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9980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bient, Emissions, SR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umn O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10 k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h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3 hou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001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bi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10 k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h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2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3 hou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857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57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er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57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osu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ul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km city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ye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857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bi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the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10 k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h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3 hou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1744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bient, Emissions, SR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omp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10 k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hr; 1-d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2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3 week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85760">
                <a:tc>
                  <a:txBody>
                    <a:bodyPr lIns="8280" rIns="8280" tIns="828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ission, SR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C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10 k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h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2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3 week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76" name="Slide Number Placeholder 3"/>
          <p:cNvSpPr/>
          <p:nvPr/>
        </p:nvSpPr>
        <p:spPr>
          <a:xfrm>
            <a:off x="6759720" y="61498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C51BF-8710-4AD2-964C-DFD671D85757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58960" y="131400"/>
            <a:ext cx="7138800" cy="5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nalyst Feedback on Methodology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88960" y="1290600"/>
            <a:ext cx="842328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Systems and Gap analysis is based on science an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Science and data may not be avail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bil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Applicable to well-defined SBA apps, e.g. agriculture, some disaster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mmended for fut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 Yes, the science/gap approach for user requirements is applicable to the next phases of US-090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6759720" y="61498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DD434-369F-4116-97FA-A22859030D2E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58960" y="131400"/>
            <a:ext cx="6851520" cy="5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Interpretation of Result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3600" y="1290600"/>
            <a:ext cx="835524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ist of the main air pollutants is established through national and international standards and guidelines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PM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.5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e per capita AQ monitoring in the developing regions is 10-20 times lower than in the developed North America and Western Europ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PM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.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the best available indicator of health-related effects, is virtually unmonitored in the developing world, and even the existing monitoring data are not acces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nce, there is a 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eed 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extend AQ monitor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sp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PM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.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nsely populated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develop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s and to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improv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acc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cience, AQ management, and the general publi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6759720" y="61498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693BA-1677-4DB0-BA2F-B0ADF6334778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58960" y="131400"/>
            <a:ext cx="6851520" cy="5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Limitations/ Caveat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22440" y="1023840"/>
            <a:ext cx="819936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73960" indent="-2739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as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3960" indent="-273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nalyst is professionally promoting data dissemination; improved data accessibility recommendation is self-ser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3960" indent="-273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tto for focus on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PM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3960" indent="-273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3960" indent="-2739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mit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3960" indent="-273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ing coverage gap analysis is clearly in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3960" indent="-273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edback from Advisory Group marg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3960" indent="-273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3960" indent="-2739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kag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3960" indent="-273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lth SBA sub-areas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fectious Diseas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eroallerg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3960" indent="-273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he causal side, AQ is linked to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Energ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Disaste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ires, dust storms, volcanoes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Weath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he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Clim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B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3960" indent="-273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Q is influencing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Ecosystem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Agricultura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plant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3960" indent="-2739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6759720" y="61498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89129-C3C8-4418-9280-ED00EBB98BE1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06:10:36Z</dcterms:created>
  <dc:creator>NASA HQ USER</dc:creator>
  <dc:description/>
  <dc:language>en-US</dc:language>
  <cp:lastModifiedBy>Rudolf Husar</cp:lastModifiedBy>
  <dcterms:modified xsi:type="dcterms:W3CDTF">2010-02-23T00:14:26Z</dcterms:modified>
  <cp:revision>344</cp:revision>
  <dc:subject/>
  <dc:title>Applied Sciences Program: Decision Support through Earth Science Results  Step 1 Review Board  ————  Cooperative Agreement Notice Released:  Sept. 17, 2004 </dc:title>
</cp:coreProperties>
</file>